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9AC-294C-4E38-B1FF-4FE007E1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2FD-DD49-477B-B919-5E979D40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CF6-C4D5-4DC6-825D-73C089B2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4B5-08B0-4271-B97A-BD95EBA8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219-23D1-4F44-AE7F-1831CBF9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2F6-7190-48D6-B689-7D8E7B68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E29-39D3-4AB6-8CEF-9E45AC49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3D2-8CF7-4183-9348-FC8B7D1F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02B-5FE3-4540-A91B-D14A6E27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549-0E9E-42FB-AEBB-81DEB9C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D87-C900-4667-9889-401DA5C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E51-4B7A-40E9-BA17-CC351E2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FA72-DEF9-4778-AE52-340D6CDE18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paso del espa</a:t>
            </a: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ñol 5to.</a:t>
            </a:r>
            <a:br>
              <a:rPr sz="4400"/>
            </a:b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ecciones 1 a 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ocabulario y gramática impor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a famil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ou should remember the basic family members from last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adre….la madre….los pad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abuelo…la abuela…los abu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hijo….la hija….los hi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hermano….la hermana…los herm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gato….el perro….las masco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Géner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ender is assigned to all nouns in Spa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ords that are masculinas are easily identified by the last letter of O. These words are preceded by the definite article  EL (th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ords that are femeninas are easily identified by the last letter of A. These words are preceded by the definite article LA (th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word is considered either masculina or femenina by it´s last letter and this has NOTHING to do with the person who has the item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me words that end in a conosonante can be either masculina or femenina….they must be memoriz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me words are RULE BREAKERS and are the opposite género of what you may think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ample….La mano….La comunidad (all ¨dad¨ words are femenina)…el problema (all ¨ma¨words are masculi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Práctica con el géner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ll whether the following words are masculina o femenina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cic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rag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Cognad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Cognado is a word that looks and sounds like what it means in the other langu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me common congnados in español are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le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i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li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art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c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member! When in doubt…ask yourself if it could be a cognad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os Salud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aludos are greetings in españ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mon saludos includ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uenos d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uenas tar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uenas no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é 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Preguntas típic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metimes a question will logically follow a greeting. Here are some examples of logical question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Qué pas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Qué t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Cómo te llam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Cómo se llama él o ell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Cuántos años tien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Dónde viv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De dónde eres – 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Cómo se escrib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Y tú or Y Ud.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as respuest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re are some logical responses to your basic questio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ucho gu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cantado o encant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pla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 lla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ngo….añ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vo en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y de…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Èl o ella se llama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cribe c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as despedid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pedidas are goodbyes in españ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ió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sta lu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sta mañ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sta ento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s v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ha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El plur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king words plural in español is very easy. Simply follow these ru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f the noun ends in a VOWEL, simply add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f the noun ends in a CONSONANT, simply add 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metimes there is an additional spelling change that has to happen before you add the S or ES, but we´ll learn those separ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hen making a noun plural, you must also make the definite article that precedes it plural. Therefore EL changes to LOS, and LA changes to 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9:44:50Z</dcterms:created>
  <dc:creator>Heidi Peckens</dc:creator>
  <dc:description/>
  <dc:language>en-US</dc:language>
  <cp:lastModifiedBy>Heidi Peckens</cp:lastModifiedBy>
  <dcterms:modified xsi:type="dcterms:W3CDTF">2009-08-13T20:20:26Z</dcterms:modified>
  <cp:revision>3</cp:revision>
  <dc:subject/>
  <dc:title>Repaso del español 5to.</dc:title>
</cp:coreProperties>
</file>